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/Jan. 200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01D-0374-4F26-91A8-2CA77A544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F6DD-6249-4474-9EC1-D852EE3276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9446-230A-418A-BC09-E99060EA4B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 the form you will see the five steps and our initial thinking about the alignment between the five steps and the ICC ECS and CE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the Content knowledge needs to include the ICC EC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sign each table/person a different CEI and see if there are any characteristics present in the unit.  Give first example (the teacher asked the students to research = students had access to a range of print materials as well as selected Web sites that the teacher had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okmarked prior to beginning project work. The students collected appropriate images for their documentaries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oth by scanning pictures from books and via image searches online. They used a standard format and index cards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capture their research notes.  So with that info. I could say that the CEI rigor and relevant curriculum that some rigor was evid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ach table/person looks at the types of instructional activities and determines which CEI, if any, they address. (Steps 2 &amp; 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he content area teachers does to set up the learning opportunities to build student knowledge (conceptual or procedural), understanding and skill (both divergent and convergent thinking) (Activity Types) – connects to CE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lect the tools and resources to communicate particular content, enable learning tasks that are not possible without technology, and to help instruction be more engaging, effective, and effici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e think steps 1 and 5 are constant and that 2-4 can be done in a different ord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C038-4A45-43BF-8A92-32AE217B5B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E24A-5FE4-447B-80F9-503AD608A5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/7/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EA 267 Educational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A9384-292C-4085-8119-4197E67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F8217-001D-40C1-B6D5-4C5C0D4C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51A3C-98B0-494C-9C2E-B026DB1D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0F2DF-B40D-4E72-8099-3405F92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D2F55-E14F-46F7-879F-84881D4B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22D26-C76E-41F6-A820-39DB424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F1F76-CE90-46A6-A135-22AAACE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C7A0D-2C15-4770-AD40-72C6948E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D0561-9537-4EA2-99FC-9AE7B315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DE049-C83F-4C84-B39B-2DB0B152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37C51-2032-4B22-AD6A-A2BC7B8C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96D97-CA21-4201-B043-E08058C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21316-705E-483D-AC0B-59FF3D9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9E461-7454-49A8-8092-A9AFEEF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74016-05C2-44BD-AAA2-4A74C64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EB1AE-EC8C-4378-AF33-A86ACF87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C7666-042D-49F7-A565-6E9BC20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A7756-2EB8-4947-A623-9FE338A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EC83B-96EE-4761-B7AC-E32C545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99F4D-CE7D-4EE6-864A-457BE0AA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81822-59BD-45B1-BBAA-2919F652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D6DA3B-B69B-4F20-9424-C154DC59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DA6410-DAD0-4D99-A8A0-496C4CC8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FC701-0327-41F7-9B3F-A2DD7FF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AAA9BC-D778-4723-B3BA-463F859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B5F664-2CB2-4877-8A8C-5324794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038DE8-75A7-4F97-B461-EC637AE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0D1433-2B84-47E3-9B55-121902C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37606F-336C-4448-864A-B0B7018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183D7E-7EE2-4921-9FD2-E963835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C821-A40D-4064-A714-A9454596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43BBD-DF07-47D6-AC21-81DDA7E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C5EC2-EC91-4B99-934E-95129F3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34651F-0997-4242-880D-F085CC72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464440-45DD-4497-BCF5-11290D77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567FBC-7F18-469F-9743-DC08178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106426-30E2-4CA0-BB12-DA78E118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95FF5E-925A-430F-B1F9-04C43745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67EBFD-ED9C-4F17-8876-2989CF8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52FF2-8B8A-4C65-91A6-D7DE765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2CB62B-E492-43DD-81AF-1B915CFF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D4217-BFBA-44CA-8D22-1D8DD29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40D3D6-4D34-4961-98C8-168CE70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CCF701-67E3-4B58-8110-54E226F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16FA25-D85C-4140-BBFA-DBF6355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A61F94-E019-417E-BB3D-3983D98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A64C0D-F52B-4932-B07B-5A9C0D7D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44506-3178-4A8D-B080-0BD14AE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80E82-EFB4-4571-A195-66AD5E9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6CC7-B62E-433F-8E15-26D591DD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F91C8-1FB9-4796-9885-CD73118B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2FA22-AEEF-44BB-A9C6-5C62802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413AE-289F-4347-85B3-0F38FA3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17CF8-980D-4516-8C89-923B704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BFE22-0D7F-45DF-AF41-FC5CB8D7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5AEC3-9EE0-4339-80E8-0BBDD7ED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C292F-3211-4330-9C0A-B9E959AF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1004-EF27-4D72-BBAA-14BF202B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0ADEA-05D8-46C3-B59B-6387DAF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81D64-0345-49F7-8859-642EC82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5D5D5-2F8D-4EE3-A7F4-CB69AD35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4326F-8DB4-4B2B-A3AC-694B416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A1D19-31E8-4251-BCED-E7DFEFFD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7158A-AD2B-4AC2-B360-1038CDA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6E364-E198-476D-AC31-965D5BB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E6F10-2A99-4C5B-B581-2CB3261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9D1D5-EBB2-43EE-8DA6-5FB1151D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3E14E-D275-4191-8600-515ED218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D0E28-C882-43CE-BC19-17F8F518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2B110-F0DB-4377-AC27-3111D4A8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C965E-992B-4476-8EA6-F4829C4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32021-5C8F-4E76-BA77-2274181D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C6890-E7AF-4A76-ACD0-3A955EE5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DA575-5B91-45A9-B70D-A1DF34A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FB9F5-6B92-4FB0-8967-B47AC91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5091A-E411-4A48-8FE9-447EECC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25637-D282-4F7E-AB44-C8CA355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A9D82-872E-4434-B1BF-6FDD1E48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8454F-EDFA-48E5-9655-B106E59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E2F4B-6307-4684-9921-9B6D81B0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A862F-4BBE-43B0-9D6A-44F968FC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1A2DC-AFEF-4935-990C-5263B075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D3DF95-6BA7-4449-BF6E-AABB4D63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B9107-F5BC-455D-A5C6-760216A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12A44-1464-4789-BBA1-DF58487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7DA188-FA3D-4811-BE4D-65F07A0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2B2EA-F814-43DF-932C-323CBA6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175BF-4340-470A-AEAB-8EA69BA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F4316-5ACE-4594-A014-BC62E67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C341FB-F444-413A-8B4A-FF62A85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91220-6188-45CF-B1DE-78D7FF8D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56600-8BA7-437B-84A3-2797A883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3020E-F9DF-4B64-8964-4C96B4B3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26749-41AC-47B1-A02F-36FA3FE6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BBF03-32EC-4878-85D6-AD348556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3A481-ECC3-41A5-948F-0E30F320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86E475-1407-4D11-8918-2DC8CE86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CA8C90-7DC5-48F6-9A91-32648F98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48E8B4-F5F3-4674-A59C-28538737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CC5A7-EE0B-4DE1-8343-6C24152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FE5CE7-36B6-43FC-814F-24197B7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96B46-F091-4CD6-82F6-B729E53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85070-BBBF-4B86-BF17-05A28321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29C373-FEDF-47A5-AEFD-F0387818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09578-466D-4DC0-A11A-BEE0E0B1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94FA4-E58E-4545-B8ED-0651CE5C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EACE0-FE44-46B4-9FAA-AC83F3D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8E8D4-4653-4BDF-8BE7-625AC06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C1209-04A2-41BB-96FB-6AB50F2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C7822-F222-4A9A-A726-B2C1D6F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41B3E-7B1A-4F69-8AA4-FBDA4D5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25B8AE-553D-4C2E-9A0A-C9D5325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4466E-1D71-4472-B1BB-B6D31D3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1802C-93AA-4F53-9ABC-2C304FF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45D29-7C9B-4D1C-876B-D183A717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C7819-B741-4BE8-8BB3-B4E9BB6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A355D-B104-495D-97D7-15259F40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0C8EA7-F295-4296-B428-C558D10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4C834-315A-4F42-947C-5A49E71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C8952-EBC8-4B33-9422-A5E7CDB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A958C-A99C-4515-9F1A-72D6F7E8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0B98C-1830-49C6-B61B-CC7CD1C1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F71D8-F00E-44A5-9A4A-C255B39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D3CA2-3E60-4721-B54F-F18E1BC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128D4-9919-4240-B0D0-3FBA4B0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487F8C-714D-4B78-81A5-A4AA825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1BB04-E39B-496F-B63B-36B038DF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1E089-3363-450B-9D71-E6E4453D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980F4-643A-40C0-98CB-A0DC7F98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0A9C8-9301-4070-8BD9-080BD3BD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28A42-9D4E-40D9-8418-DDF2416A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81B9E5-DF1F-46E4-A90C-5F3F17DF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EA63-B425-42B1-AE34-60142030BDFF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92E-0674-45ED-8ACB-9358C53148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C20F-5DFB-4FA4-9AE0-E3F2A82D93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5B23-2F53-461E-A807-2B4A5EB62DBB}" type="slidenum"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140-1631-4D44-8658-D42C4AAE274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395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6FE-AABD-4311-9069-25C984822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D069-C6C0-4290-A67D-D9BAE258533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9D9E-ADAD-4DF4-8C64-00C72308FDE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4D5-D15F-4CCE-920F-C8848443999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CF3-301E-4FD3-AB9C-28DD17EADB7D}" type="slidenum">
              <a:rPr b="0" lang="en-US" sz="18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39575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206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39575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575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343-55D7-4DB4-9DD6-D2E5B5B0D2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ctivitytypes.wmwikis.net/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TPACK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   </a:t>
            </a:r>
            <a:r>
              <a:rPr b="1" lang="en-US" sz="4400" spc="-1" strike="noStrike">
                <a:solidFill>
                  <a:srgbClr val="3a5750"/>
                </a:solidFill>
                <a:latin typeface="Tw Cen MT"/>
              </a:rPr>
              <a:t>5 Step Planning Process</a:t>
            </a: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2e89"/>
                </a:solidFill>
                <a:latin typeface="Tw Cen MT"/>
              </a:rPr>
              <a:t>             IA Core Curriculum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0" y="6149880"/>
            <a:ext cx="922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5750"/>
                </a:solidFill>
                <a:latin typeface="Arial"/>
              </a:rPr>
              <a:t>All for better Teaching and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22"/>
          <p:cNvSpPr/>
          <p:nvPr/>
        </p:nvSpPr>
        <p:spPr>
          <a:xfrm>
            <a:off x="152280" y="15228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…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Directions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91440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Read the artic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San Diego explores effective ed-tech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through TPACK”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Grounded Tech Integr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e89"/>
                </a:solidFill>
                <a:latin typeface="Arial"/>
              </a:rPr>
              <a:t>As you read, highlight statement(s) in the articles that are interesting from each article that you want to share with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When finished, discuss the artic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Next, read the “Tech Integration in Social Studies” article &amp; highlight important information you want to discu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buClr>
                <a:srgbClr val="002e8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89"/>
                </a:solidFill>
                <a:latin typeface="Arial"/>
                <a:ea typeface="Arial"/>
              </a:rPr>
              <a:t>Discuss this 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10"/>
          <p:cNvGrpSpPr/>
          <p:nvPr/>
        </p:nvGrpSpPr>
        <p:grpSpPr>
          <a:xfrm>
            <a:off x="304920" y="0"/>
            <a:ext cx="8839080" cy="6858000"/>
            <a:chOff x="304920" y="0"/>
            <a:chExt cx="8839080" cy="6858000"/>
          </a:xfrm>
        </p:grpSpPr>
        <p:pic>
          <p:nvPicPr>
            <p:cNvPr id="555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0"/>
              <a:ext cx="8839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12"/>
            <p:cNvSpPr/>
            <p:nvPr/>
          </p:nvSpPr>
          <p:spPr>
            <a:xfrm>
              <a:off x="304920" y="457200"/>
              <a:ext cx="2361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c9cff"/>
                  </a:solidFill>
                  <a:latin typeface="Arial"/>
                </a:rPr>
                <a:t>T</a:t>
              </a:r>
              <a:r>
                <a:rPr b="0" lang="en-US" sz="4800" spc="-1" strike="noStrike">
                  <a:solidFill>
                    <a:srgbClr val="91feff"/>
                  </a:solidFill>
                  <a:latin typeface="Arial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Rectangle 2"/>
          <p:cNvSpPr/>
          <p:nvPr/>
        </p:nvSpPr>
        <p:spPr>
          <a:xfrm>
            <a:off x="0" y="914400"/>
            <a:ext cx="304920" cy="5943600"/>
          </a:xfrm>
          <a:prstGeom prst="rect">
            <a:avLst/>
          </a:prstGeom>
          <a:solidFill>
            <a:srgbClr val="00206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0" y="0"/>
            <a:ext cx="304920" cy="914400"/>
          </a:xfrm>
          <a:prstGeom prst="rect">
            <a:avLst/>
          </a:prstGeom>
          <a:solidFill>
            <a:srgbClr val="3957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5567040" y="54864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Whiteboard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Straight Arrow Connector 6"/>
          <p:cNvCxnSpPr/>
          <p:nvPr/>
        </p:nvCxnSpPr>
        <p:spPr>
          <a:xfrm flipH="1" flipV="1">
            <a:off x="4876200" y="4266360"/>
            <a:ext cx="991080" cy="122004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561" name="TextBox 7"/>
          <p:cNvSpPr/>
          <p:nvPr/>
        </p:nvSpPr>
        <p:spPr>
          <a:xfrm>
            <a:off x="5793480" y="16765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GI or AI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Straight Arrow Connector 8"/>
          <p:cNvCxnSpPr/>
          <p:nvPr/>
        </p:nvCxnSpPr>
        <p:spPr>
          <a:xfrm flipH="1">
            <a:off x="4647960" y="2057400"/>
            <a:ext cx="1676880" cy="534240"/>
          </a:xfrm>
          <a:prstGeom prst="straightConnector1">
            <a:avLst/>
          </a:prstGeom>
          <a:ln w="7632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22"/>
          <p:cNvSpPr/>
          <p:nvPr/>
        </p:nvSpPr>
        <p:spPr>
          <a:xfrm>
            <a:off x="152280" y="15228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..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Directions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762120"/>
            <a:ext cx="9144000" cy="85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Read the ICC Characteristic of Effective Instruction (CEI) handou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Assign a person to each CE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Individually read the 6</a:t>
            </a:r>
            <a:r>
              <a:rPr b="1" lang="en-US" sz="2700" spc="-1" strike="noStrike" baseline="30000">
                <a:solidFill>
                  <a:srgbClr val="002e89"/>
                </a:solidFill>
                <a:latin typeface="Arial"/>
              </a:rPr>
              <a:t>th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grade U.S History ~ Civil War example unit. Filter the reading through the lens of the assigned CE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As a group, discuss the Moving from Texy to TPACK form and then complete it by getting everyone’s inform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(use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activitytypes.wmwikis.net/</a:t>
            </a:r>
            <a:r>
              <a:rPr b="1" lang="en-US" sz="2700" spc="-1" strike="noStrike">
                <a:solidFill>
                  <a:srgbClr val="002e89"/>
                </a:solidFill>
                <a:latin typeface="Arial"/>
              </a:rPr>
              <a:t> to check out the activity types, descriptions, &amp; technologi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2e8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22"/>
          <p:cNvSpPr/>
          <p:nvPr/>
        </p:nvSpPr>
        <p:spPr>
          <a:xfrm>
            <a:off x="152280" y="152280"/>
            <a:ext cx="8991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PACK…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Processing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24"/>
          <p:cNvSpPr/>
          <p:nvPr/>
        </p:nvSpPr>
        <p:spPr>
          <a:xfrm>
            <a:off x="0" y="1600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990720"/>
            <a:ext cx="8686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8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0" y="144792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9"/>
                </a:solidFill>
                <a:latin typeface="Arial"/>
              </a:rPr>
              <a:t>What did you notice about the table tit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002e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89"/>
                </a:solidFill>
                <a:latin typeface="Arial"/>
              </a:rPr>
              <a:t>How are these activity types similar to what your have used bef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7:07Z</dcterms:created>
  <dc:creator>Julie Crotty</dc:creator>
  <dc:description/>
  <dc:language>en-US</dc:language>
  <cp:lastModifiedBy>Julie Graber</cp:lastModifiedBy>
  <dcterms:modified xsi:type="dcterms:W3CDTF">2010-04-28T15:38:56Z</dcterms:modified>
  <cp:revision>773</cp:revision>
  <dc:subject/>
  <dc:title>Slide 1</dc:title>
</cp:coreProperties>
</file>